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3F2-A0B2-4942-934B-DB3F49DC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6AB-78F9-4838-8C6F-955B3585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3C4-44CF-4001-8A35-6C868F4D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FD9-87C0-4E26-B186-6C14248C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E76B-DCDB-4155-9414-E8BDF9AF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A715-01C4-4BF2-8D06-E1556BC0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61FC-C030-4F21-B635-4CC5FA5F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8542-8BB5-4781-BC6A-5EDDF5EF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F28F-F1BD-46DD-A366-7FA9746F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CB12-63A0-4A70-8F9E-7EFE6B11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5852-D183-41A8-8734-620623F5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C61-8398-4024-AE4B-CFA6D097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223-643D-4931-975D-9E45E79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83C4-E10E-414F-8FDE-DCE7A7D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D9A5-8CC3-480D-B557-AAE34AFF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74E-1C12-4A29-91A2-38A5CC8B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8F3F-F182-4348-89EB-F62AD8DF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2BB-609A-43F7-81D1-1D3E4CA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F30-3B6A-4EAB-8AEF-F1C883DF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464-587B-4F31-B7EF-E07D91F4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2EA-D159-4B64-8B42-F48BE65D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0D7-E08E-45CD-9C5A-32B0B13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425-23EE-466B-9334-7ADEF93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8F2-9E53-49DC-AF98-86A4961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C05E-A256-4A68-BF11-AA49B46236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CC0C-1033-412B-A0CB-5F0E527204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roduction to Gene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. Lazza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mina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n even if other versions are present ex: Yy and YY both appear yellow no ble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ated with a capital l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more common but not al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4724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een if other versions are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if homozygous recessive y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ated with a lower case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85000" y="3946680"/>
            <a:ext cx="270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cess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oty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make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lleles you h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mozyg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have the same alleles for a particular gene  example: YY or y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terozygou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have different alleles for a particular gen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Y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eneoty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2515680"/>
            <a:ext cx="84564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ppea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 we se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Y or Yy = appears yellow (so phenotype = yell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y = g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is Yy yellow not gre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ed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assing characteristics from parent to offspring (childr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ertilization-male and female gametes combine to form new offspr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ollination – (in plants) pollen grains fertilize female gam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92160" y="1849320"/>
            <a:ext cx="4856400" cy="38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 of hered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gor Men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harge of monastery garde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her of gene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ied characteristics of peas and how characteristics are passed 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mally peas self –pollinate = males fertilize female’s egg of sam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ould cause cross-polination = offspring (seeds) of 2 different par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ied 7 characteristics – study a few or else too man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903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ndel’s Finding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his observations, Mendel decided that there must be two factors controlling each trait. He concluded that there w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min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(A) an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ces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) form of each trait and that presence of the dominant form masked the recessive form. Each of these forms is now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le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del’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w of segreg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ys that a pair of factors is separated or segregated during the formation of gametes (meiosi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del’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w of independent assort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ys that factors for different traits are distributed to gametes independently from one an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 eye color or hair color or h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s or piece of DNA that determines a characteristic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 a piece of DNA codes for a protein or product which determines these characteri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e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 forms or versions of a g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blue, brown, green eye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Gene: height; alleles = tall shor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 have 2 alleles for each gene     (1 on each chromoso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metes have 1 allele because haplo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Y = yellow and y = green since same gene &amp; (only 2 alleles) lets use the same let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8T14:00:24Z</dcterms:created>
  <dc:creator>Melanie Borun</dc:creator>
  <dc:description/>
  <dc:language>en-US</dc:language>
  <cp:lastModifiedBy>Tricia</cp:lastModifiedBy>
  <dcterms:modified xsi:type="dcterms:W3CDTF">2007-02-16T14:12:42Z</dcterms:modified>
  <cp:revision>11</cp:revision>
  <dc:subject/>
  <dc:title>No Slide Title</dc:title>
</cp:coreProperties>
</file>